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6E5-F1D9-44C8-89A3-ABA8390D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D10-9067-499A-BA31-D1BAB233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9EF-233F-4390-BB6B-08B97352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085-6AE7-40E8-BBA5-6A4A510E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6CA-3CCD-482B-A8C2-D79398CF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EDC-97F6-4521-89C0-56D2A13F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B65-33AC-418F-8D4D-07F52C89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817-CBD1-4427-B0B7-4EB6F444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205-CCBA-42F9-A92B-B69673F7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EE2-05B2-4A3F-A82E-64106A03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E69-BBDB-4905-B93C-B109FAA6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77D-43C2-4C05-9FF6-11123E8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85B3-EE65-475C-9B6D-986AC4927D1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1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09:04:57Z</dcterms:created>
  <dc:creator>Grupo Editorial</dc:creator>
  <dc:description/>
  <dc:language>en-US</dc:language>
  <cp:lastModifiedBy>usuario</cp:lastModifiedBy>
  <dcterms:modified xsi:type="dcterms:W3CDTF">2009-09-01T17:22:32Z</dcterms:modified>
  <cp:revision>1</cp:revision>
  <dc:subject/>
  <dc:title>Sin título de diapositiva</dc:title>
</cp:coreProperties>
</file>